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4D6DC-4BD2-4198-8FB8-EA3084CBE2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Chemical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2 +    H2     N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+    H2     NH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ClO3     KCl +   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lO3     KCl +  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2H6 +   O2    CO2 +  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O2    CO2 +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 +   O2     Fe2O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+   O2    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emical equation - Describes a chemical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ts of an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hat is a chemical equ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 - Describes a chemical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n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eq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- The chemical(s) you start with before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ritten on lef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- The new chemical(s) formed by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gh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s and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- The chemical(s) you start with before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on lef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- The new chemical(s) formed by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 - shows how many atoms of an element are in a molec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atoms of hydrogen 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atom of oxygen (O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efficient - shows how many molecules there are of a particular chemic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3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ans there are 3 water molecu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s and Coeffic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 - shows how many atoms of an element are in a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toms of hydrogen (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tom of oxygen (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- shows how many molecules there are of a particular 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3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ere are 3 wate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s and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H2 + O2 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Chemical Re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a chem. rxn, matter is neither created n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other words, the number and type of atoms going INTO a rxn must be the same as the number and type of atoms coming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an equation obeys the Law of Conservation, it is balanc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w of Conservation of M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. rxn, matter is neither created n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number and type of atoms going INTO a rxn must be the same as the number and type of atoms com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obeys the Law of Conservation, it is 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O2  CO2 +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Un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O2  CO2 +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2O2  CO2 +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2O2  CO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Matter cannot be created 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Subscripts cannot be added, removed, or 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You can only change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oefficients can only go in front of chem. formulas...NEVER in the middle of a form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few extra tip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y balancing big formulas first; save free elements for la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the same polyatomic ion appears on both sides of the equation, it’s usually okay to treat it as one un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 is no one particular way to balance equations.  Some equations are harder to balance than others and might require some creativity to sol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ules of the G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tter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ubscripts cannot be added, removed, or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You can only change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oefficients can only go in front of chem. formulas...NEVER in the middle of a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tra ti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balancing big formulas first; save free elements for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ame polyatomic ion appears on both sides of the equation, it’s usually okay to treat it as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one particular way to balance equations.  Some equations are harder to balance than others and might require some creativity to 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DBD-E02B-4776-BBC5-DA8FD55B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0EC-4B0F-4D30-AFF8-065B8A65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CDD-A4DB-40E9-A30D-D0806F07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274-3FAB-4D87-94E5-FB48B130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24ADE-D40C-4F55-AE13-6A9CE058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D3E74-BF0E-424C-B9C9-F22164B0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80C6E-F711-45E7-8977-88DCACF0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E9823-0DA5-44BF-AA10-40D42C12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7953F-D118-4ACE-BBDE-07DEDC57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77C2F-EF10-44EE-8859-DB3777DC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EA87B-639B-4186-B98F-3BF7C473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B47-7798-4932-AA8A-D96B2EF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D6298-B4CB-4730-92F9-DAA7F414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263B0-58C0-4B6F-8013-A1BF265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671D1-5ACB-4FC4-A840-EBE70B9C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474B5-7E6B-4C3E-807B-12CD5B94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9A41C-0C17-49C4-AAC0-5C8818B0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9CC15-924F-4F98-976F-1AC8C22F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7CE3-F2E3-4D7D-8827-A07D44C3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404A-4086-4EE9-81F6-A57FBA71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46E8-CE67-4464-9B01-81ACB9DA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5743-5ECD-4DEA-B7B4-BF81BCD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A38-8F32-4F8E-AFD5-CC7E24C3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49E8-6889-4FFC-BF41-9B3458A6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8F05-481B-4EA0-A1FD-8772A94F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ED58-0B9F-4BE8-A832-1D84697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2692-746C-4F7A-8AB6-FDFA0496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7DB5-3619-43E2-B7A3-72804526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9DE4-9807-4CA1-BB38-247B7C12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B062-2D42-4656-94A4-E71A0BE5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06DEF-485F-4C5A-A729-69928575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74F220-B32C-42E5-952B-7D8F498A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A2AB6-2795-4E07-8214-A5E31152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1DE-ABCF-4D75-929A-3E8D501D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D6C3A-D3F0-40E8-8465-75F0F09D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7C311-FD3C-4C73-A047-8874EA77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500E5-98A8-438E-9CF8-5EC47C69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8D7DF-C2D6-43F4-A377-5101065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55BAF-7EDE-45AC-836F-7E1E0D4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527990-5137-4EB8-B605-2790E59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1B990-3858-4DEB-B8A2-B9B85B40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133E2-2F72-4274-9A3D-FA2B0840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31EA8-29DB-4BAB-BDA1-D6EA92A1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463-0DCA-42FB-9E3E-7046813E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A8D-691D-4C07-9832-1C00A6A4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02C-B41C-456A-B321-B7FEC514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B03-6F51-45FF-9370-C47A8C6D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4D7-AA42-467D-8A81-FBC17278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24B61-6F0C-4E05-A1B4-66BCEBB27FE8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16B0E-9D30-422B-975B-EA632A135E0E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3F69E-EC39-493A-BDB7-28FED6C69335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F1EEE-246B-4A9E-910C-F9564864ED22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932184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2920" y="1768320"/>
            <a:ext cx="90709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023840" y="4114800"/>
            <a:ext cx="2773080" cy="2284560"/>
            <a:chOff x="1023840" y="4114800"/>
            <a:chExt cx="2773080" cy="2284560"/>
          </a:xfrm>
        </p:grpSpPr>
        <p:sp>
          <p:nvSpPr>
            <p:cNvPr id="261" name="Line 4"/>
            <p:cNvSpPr/>
            <p:nvPr/>
          </p:nvSpPr>
          <p:spPr>
            <a:xfrm>
              <a:off x="2395440" y="4114800"/>
              <a:ext cx="1080" cy="228456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025280" y="4571640"/>
              <a:ext cx="2739960" cy="10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102384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242712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1025280" y="5423400"/>
              <a:ext cx="273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1025280" y="6396120"/>
              <a:ext cx="273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506520" y="4680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06520" y="5688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2600" y="2948040"/>
            <a:ext cx="4343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N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8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39860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2730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76696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730260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666880" y="46926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666880" y="562932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61168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374840" y="5629320"/>
            <a:ext cx="60624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280" name="AutoShape 23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24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5028840" y="457164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531612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5281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5425200" y="5772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6109560" y="5988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6073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6288840" y="5125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6325560" y="526968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7907400" y="583128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980480" y="4872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413920" y="4909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8848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124840" y="5017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196480" y="5736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7872480" y="6024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8269560" y="60980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Місце для нижнього колонтитула 3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513320" y="2948040"/>
            <a:ext cx="5137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KCl +   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4"/>
          <p:cNvGrpSpPr/>
          <p:nvPr/>
        </p:nvGrpSpPr>
        <p:grpSpPr>
          <a:xfrm>
            <a:off x="1023840" y="3611520"/>
            <a:ext cx="2776680" cy="3246480"/>
            <a:chOff x="1023840" y="3611520"/>
            <a:chExt cx="2776680" cy="3246480"/>
          </a:xfrm>
        </p:grpSpPr>
        <p:sp>
          <p:nvSpPr>
            <p:cNvPr id="303" name="Line 4"/>
            <p:cNvSpPr/>
            <p:nvPr/>
          </p:nvSpPr>
          <p:spPr>
            <a:xfrm>
              <a:off x="2397240" y="3611520"/>
              <a:ext cx="1440" cy="32464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25640" y="4068720"/>
              <a:ext cx="2743200" cy="180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102384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242892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025640" y="495792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025640" y="5929200"/>
              <a:ext cx="274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025640" y="682956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1"/>
          <p:cNvSpPr/>
          <p:nvPr/>
        </p:nvSpPr>
        <p:spPr>
          <a:xfrm>
            <a:off x="506520" y="417672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33440" y="518472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33440" y="615636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98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39860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30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276696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39860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276696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4064040" y="2928960"/>
            <a:ext cx="4557600" cy="657360"/>
            <a:chOff x="4064040" y="2928960"/>
            <a:chExt cx="4557600" cy="657360"/>
          </a:xfrm>
        </p:grpSpPr>
        <p:sp>
          <p:nvSpPr>
            <p:cNvPr id="320" name="Text Box 21"/>
            <p:cNvSpPr/>
            <p:nvPr/>
          </p:nvSpPr>
          <p:spPr>
            <a:xfrm>
              <a:off x="79358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40640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137160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1376280" y="42354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137160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77488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73996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774880" y="41940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1196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0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330" name="AutoShape 31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2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5173200" y="5363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4776480" y="5292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957560" y="53269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5138280" y="508896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4884480" y="5578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6109560" y="512532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180840" y="5400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5784120" y="5326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5965200" y="536328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5892120" y="561564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744120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7296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823284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8088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7260120" y="5974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7512120" y="6082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855468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884376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1"/>
            <p:cNvSpPr/>
            <p:nvPr/>
          </p:nvSpPr>
          <p:spPr>
            <a:xfrm>
              <a:off x="8304480" y="611856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2"/>
            <p:cNvSpPr/>
            <p:nvPr/>
          </p:nvSpPr>
          <p:spPr>
            <a:xfrm>
              <a:off x="8554680" y="6226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Місце для нижнього колонтитула 4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C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6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C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925560" y="2255760"/>
            <a:ext cx="4114800" cy="546120"/>
            <a:chOff x="925560" y="2255760"/>
            <a:chExt cx="4114800" cy="546120"/>
          </a:xfrm>
        </p:grpSpPr>
        <p:sp>
          <p:nvSpPr>
            <p:cNvPr id="356" name="Text Box 4"/>
            <p:cNvSpPr/>
            <p:nvPr/>
          </p:nvSpPr>
          <p:spPr>
            <a:xfrm>
              <a:off x="3211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354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2220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925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2920" y="1767960"/>
            <a:ext cx="90709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Fe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 Fe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1077840" y="2255760"/>
            <a:ext cx="2590920" cy="546120"/>
            <a:chOff x="1077840" y="2255760"/>
            <a:chExt cx="2590920" cy="546120"/>
          </a:xfrm>
        </p:grpSpPr>
        <p:sp>
          <p:nvSpPr>
            <p:cNvPr id="364" name="Text Box 4"/>
            <p:cNvSpPr/>
            <p:nvPr/>
          </p:nvSpPr>
          <p:spPr>
            <a:xfrm>
              <a:off x="29829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191628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1077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02920" y="1767960"/>
            <a:ext cx="9070920" cy="166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hemical equation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Describes a chemical chang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Parts of an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1365120" y="4700520"/>
            <a:ext cx="7467840" cy="787320"/>
            <a:chOff x="1365120" y="4700520"/>
            <a:chExt cx="7467840" cy="787320"/>
          </a:xfrm>
        </p:grpSpPr>
        <p:sp>
          <p:nvSpPr>
            <p:cNvPr id="182" name="AutoShape 3"/>
            <p:cNvSpPr/>
            <p:nvPr/>
          </p:nvSpPr>
          <p:spPr>
            <a:xfrm>
              <a:off x="4260960" y="4853160"/>
              <a:ext cx="1371600" cy="409320"/>
            </a:xfrm>
            <a:prstGeom prst="rightArrow">
              <a:avLst>
                <a:gd name="adj1" fmla="val 23259"/>
                <a:gd name="adj2" fmla="val 771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365120" y="4700520"/>
              <a:ext cx="2826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2Ag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6013440" y="4700520"/>
              <a:ext cx="2819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1667160" y="3633840"/>
            <a:ext cx="2898360" cy="1083960"/>
            <a:chOff x="1667160" y="3633840"/>
            <a:chExt cx="2898360" cy="1083960"/>
          </a:xfrm>
        </p:grpSpPr>
        <p:sp>
          <p:nvSpPr>
            <p:cNvPr id="186" name="Text Box 7"/>
            <p:cNvSpPr/>
            <p:nvPr/>
          </p:nvSpPr>
          <p:spPr>
            <a:xfrm>
              <a:off x="2050920" y="36338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 rot="5340000">
              <a:off x="2395440" y="3443040"/>
              <a:ext cx="533160" cy="19814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440"/>
                <a:gd name="textAreaBottom" fmla="*/ 18864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15"/>
          <p:cNvGrpSpPr/>
          <p:nvPr/>
        </p:nvGrpSpPr>
        <p:grpSpPr>
          <a:xfrm>
            <a:off x="6086520" y="3633840"/>
            <a:ext cx="1990080" cy="1083960"/>
            <a:chOff x="6086520" y="3633840"/>
            <a:chExt cx="1990080" cy="1083960"/>
          </a:xfrm>
        </p:grpSpPr>
        <p:sp>
          <p:nvSpPr>
            <p:cNvPr id="189" name="Text Box 6"/>
            <p:cNvSpPr/>
            <p:nvPr/>
          </p:nvSpPr>
          <p:spPr>
            <a:xfrm>
              <a:off x="6470640" y="3633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 rot="5340000">
              <a:off x="6814800" y="3443040"/>
              <a:ext cx="533160" cy="19810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080"/>
                <a:gd name="textAreaBottom" fmla="*/ 18860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956040" y="5462640"/>
            <a:ext cx="1987560" cy="1663560"/>
            <a:chOff x="3956040" y="5462640"/>
            <a:chExt cx="1987560" cy="1663560"/>
          </a:xfrm>
        </p:grpSpPr>
        <p:sp>
          <p:nvSpPr>
            <p:cNvPr id="192" name="AutoShape 8"/>
            <p:cNvSpPr/>
            <p:nvPr/>
          </p:nvSpPr>
          <p:spPr>
            <a:xfrm>
              <a:off x="4718160" y="5462640"/>
              <a:ext cx="380880" cy="1143000"/>
            </a:xfrm>
            <a:prstGeom prst="upArrow">
              <a:avLst>
                <a:gd name="adj1" fmla="val 21667"/>
                <a:gd name="adj2" fmla="val 8210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3956040" y="675792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ion symb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Місце для нижнього колонтитула 5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Reacta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chemical(s) you start with before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Written on lef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Produc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new chemical(s) formed by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Righ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Subscrip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atoms of an element are in a molecul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2 atoms of hydrogen (H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 atom of oxygen (O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oefficie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molecules there are of a particular chemical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3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Means there are 3 water molecules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In a chem. rxn, matter is neither created nor destroye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In other words, the number and type of atoms going INTO a rxn must be the same as the number and type of atoms coming OUT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If an equation obeys the Law of Conservation, it is </a:t>
            </a:r>
            <a:r>
              <a:rPr b="1" lang="en-GB" sz="2900" spc="-1" strike="noStrike">
                <a:solidFill>
                  <a:srgbClr val="ffff00"/>
                </a:solidFill>
                <a:latin typeface="Constantia"/>
              </a:rPr>
              <a:t>balanced</a:t>
            </a: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C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C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5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Balanced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280" y="1770120"/>
            <a:ext cx="90709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2874960" y="408312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3235320" y="4262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8489880" y="4456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8070840" y="41068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25"/>
          <p:cNvSpPr/>
          <p:nvPr/>
        </p:nvSpPr>
        <p:spPr>
          <a:xfrm>
            <a:off x="7950240" y="4564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1. Matter cannot be created or destroy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2. Subscripts cannot be added, removed, or chang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3. You can only change coefficients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4. Coefficients can only go in front of chem. formulas...NEVER in the middle of a formul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A few extra tips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y balancing big formulas first; save free elements for las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f the same polyatomic ion appears on both sides of the equation, it’s usually okay to treat it as one uni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is no one particular way to balance equations.  Some equations are harder to balance than others and might require some creativity to solv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Rectangle 1" descr=""/>
          <p:cNvPicPr/>
          <p:nvPr/>
        </p:nvPicPr>
        <p:blipFill>
          <a:blip r:embed="rId1"/>
          <a:stretch/>
        </p:blipFill>
        <p:spPr>
          <a:xfrm>
            <a:off x="189000" y="298440"/>
            <a:ext cx="9388440" cy="163368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Curtis</dc:creator>
  <dc:description/>
  <dc:language>en-US</dc:language>
  <cp:lastModifiedBy>LEGION</cp:lastModifiedBy>
  <dcterms:modified xsi:type="dcterms:W3CDTF">2017-01-26T09:37:15Z</dcterms:modified>
  <cp:revision>6</cp:revision>
  <dc:subject/>
  <dc:title>Balancing Chemical Equations</dc:title>
</cp:coreProperties>
</file>